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EF64-1469-4C5C-A065-786867C5C04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C925-82C6-4B69-BBA0-7DFE1076983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7738-9F19-4334-8816-F2CECF1FED4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BFC2-5574-4288-8214-2132C71B51F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B772-A645-4CAA-A643-9086C5E59FA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4FDB-7B19-4033-A734-B34EB4B810E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95E3-7ADA-4520-BD6A-F2F8BDAD89E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7050-1FB1-4472-9B14-9BB13262DF7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DBE4-A211-4305-9E43-8A10FDEDB70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99E6-F82C-48D7-8816-9E67B6B8234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D567-3F41-4202-95CB-BF528E7DFB5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1EE1-BFA5-49D6-9E0D-7BEEC18B49E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6058-B059-46ED-BC7F-DD2E70EEBBC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A83A-D4A3-4E1C-A201-69D85B9BAE0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E17C-D846-4E29-83DF-575E737111E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25D1-2558-428D-9C55-FE8D8CFE2FD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02D0-565A-4774-A34F-AC9346642CF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3223-2626-40BF-8B77-3C390FDB79C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910B-A097-44E1-BAB4-738D7B43F47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EC7A-E728-4A1A-B560-91E9E25809A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1A34-2A3C-4A2F-9745-89660001290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F1F2-048A-4980-BBAA-B1B8DE13E23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ED21-B0FB-438C-9F14-25F37E5DC20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8983-934F-433C-9F93-7B70CEB2989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5264-688B-4C52-92C4-F9B39303ACF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1EB8-1F2E-46B6-8468-26446F81076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0F81-DCB1-4C6B-9165-4AC407BFD5C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CF69-FFEB-4765-9DBB-8A954603407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5751-B5D4-44FF-9C98-DA032AFCD03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1F2E-8C11-4BAB-A6A8-BF1A8419943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E8DF-D956-4893-B8A0-21469D0143A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58C9-4CB8-45BD-B1F0-D531CF5D65E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A32F-9A45-4AE2-A8DA-E004183556D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E4F1-9840-401E-BC7D-4CB981D9AEF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2A67-538B-4B23-B16B-67132A81EE9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6BEA-56C3-48CD-B66D-6F3CDC011D8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D5A7-C173-4E79-A51E-5347F7CD9DA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06FA-7A18-436E-A590-FA3116DD34A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DAB7-DDEF-4A22-A481-59215216734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39C9-3BC6-4C3C-B973-188294E3E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20A0-238C-46B3-B27D-A66F44D2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C5D1-AC8D-4062-84AC-3990E338E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2D8A-972C-463B-AA08-8244B5CA4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C38C-5C81-4D0E-B80F-D890C734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F667-8171-4578-9F57-C4555F70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F177-A80B-4CBF-8D48-39969226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6AAB-FA36-4A14-8E99-57CF4D85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B7A0-7FEB-434B-BDF9-FDE5EB9B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1A22-6D4D-4F5B-8539-17F96287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E5CA-435A-4A38-8EC3-BC28A95B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2F13-3C8F-42EF-8022-4FD7688C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EED0-75EE-4784-B03B-751660622915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都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ōu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이미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벌써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辣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à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맵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味道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èidào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맛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咸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á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짜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点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iǎ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주문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菜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à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요리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来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á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86920" y="5025600"/>
            <a:ext cx="638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어떤 동작</a:t>
            </a: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행동을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하다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0" spc="-1" strike="noStrike">
                <a:solidFill>
                  <a:srgbClr val="000000"/>
                </a:solidFill>
                <a:latin typeface="Arial"/>
              </a:rPr>
              <a:t>鱼香肉丝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012720"/>
            <a:ext cx="62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0" spc="-1" strike="noStrike">
                <a:solidFill>
                  <a:srgbClr val="000000"/>
                </a:solidFill>
                <a:latin typeface="Arial"/>
              </a:rPr>
              <a:t>yú</a:t>
            </a: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xiāng ròusī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위샹러우쓰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0" spc="-1" strike="noStrike">
                <a:solidFill>
                  <a:srgbClr val="000000"/>
                </a:solidFill>
                <a:latin typeface="Arial"/>
              </a:rPr>
              <a:t>宫保鸡丁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127200"/>
            <a:ext cx="62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gōngbǎo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jīdīng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궁바오지딩</a:t>
            </a:r>
            <a:endParaRPr b="0" lang="en-US" sz="8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还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á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또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더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别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ié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다른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별도의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饿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è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배고프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碗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64524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wǎn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그릇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양사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米饭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64524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mǐfàn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쌀밥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0" spc="-1" strike="noStrike">
                <a:solidFill>
                  <a:srgbClr val="000000"/>
                </a:solidFill>
                <a:latin typeface="Arial"/>
              </a:rPr>
              <a:t>麻婆豆腐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728760"/>
            <a:ext cx="626436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000000"/>
                </a:solidFill>
                <a:latin typeface="Arial"/>
              </a:rPr>
              <a:t>mápódòufu</a:t>
            </a:r>
            <a:endParaRPr b="0" lang="en-US" sz="8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마파두부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还是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áish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205240"/>
            <a:ext cx="63817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6500" spc="-1" strike="noStrike">
                <a:solidFill>
                  <a:srgbClr val="000000"/>
                </a:solidFill>
                <a:latin typeface="Arial"/>
              </a:rPr>
              <a:t>하는 편이 좋다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商店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654240"/>
            <a:ext cx="62643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Arial"/>
              </a:rPr>
              <a:t>shāngdiàn</a:t>
            </a:r>
            <a:endParaRPr b="0" lang="en-US" sz="9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상점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里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ǐ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안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苹果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píngguǒ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사과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梨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í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배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香蕉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xiāngjiāo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바나나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炒饭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chǎofàn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볶음밥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有点儿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yǒudiǎnr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조금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0" spc="-1" strike="noStrike">
                <a:solidFill>
                  <a:srgbClr val="000000"/>
                </a:solidFill>
                <a:latin typeface="Arial"/>
              </a:rPr>
              <a:t>糖醋里脊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tángcùlǐjǐ</a:t>
            </a:r>
            <a:endParaRPr b="0" lang="en-US" sz="10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탕추리지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Arial"/>
              </a:rPr>
              <a:t>甜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iá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달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酸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TextBox 7"/>
          <p:cNvSpPr/>
          <p:nvPr/>
        </p:nvSpPr>
        <p:spPr>
          <a:xfrm rot="10800000">
            <a:off x="333000" y="664524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uān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시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累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è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피곤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困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kù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졸리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打包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ǎbāo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포장하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炸酱面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TextBox 7"/>
          <p:cNvSpPr/>
          <p:nvPr/>
        </p:nvSpPr>
        <p:spPr>
          <a:xfrm rot="10800000">
            <a:off x="333000" y="5937120"/>
            <a:ext cx="626436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Arial"/>
              </a:rPr>
              <a:t>Zhájiàng</a:t>
            </a:r>
            <a:endParaRPr b="0" lang="en-US" sz="95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Arial"/>
              </a:rPr>
              <a:t>miàn</a:t>
            </a:r>
            <a:endParaRPr b="0" lang="en-US" sz="9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짜장면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牛肉面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TextBox 7"/>
          <p:cNvSpPr/>
          <p:nvPr/>
        </p:nvSpPr>
        <p:spPr>
          <a:xfrm rot="10800000">
            <a:off x="333000" y="5860800"/>
            <a:ext cx="62643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Niúròu</a:t>
            </a:r>
            <a:endParaRPr b="0" lang="en-US" sz="10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miàn</a:t>
            </a:r>
            <a:endParaRPr b="0" lang="en-US" sz="10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소고기 국수</a:t>
            </a:r>
            <a:endParaRPr b="0" lang="en-US" sz="8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玉米汤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TextBox 7"/>
          <p:cNvSpPr/>
          <p:nvPr/>
        </p:nvSpPr>
        <p:spPr>
          <a:xfrm rot="10800000">
            <a:off x="333000" y="6578280"/>
            <a:ext cx="626436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500" spc="-1" strike="noStrike">
                <a:solidFill>
                  <a:srgbClr val="000000"/>
                </a:solidFill>
                <a:latin typeface="Arial"/>
              </a:rPr>
              <a:t>yùmǐtāng</a:t>
            </a:r>
            <a:endParaRPr b="0" lang="en-US" sz="10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옥수수 스프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吃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hī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먹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饭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fàn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밥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中国菜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0" y="6728760"/>
            <a:ext cx="68580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000000"/>
                </a:solidFill>
                <a:latin typeface="Arial"/>
              </a:rPr>
              <a:t>zhōngguócài</a:t>
            </a:r>
            <a:endParaRPr b="0" lang="en-US" sz="8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054400"/>
            <a:ext cx="638172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500" spc="-1" strike="noStrike">
                <a:solidFill>
                  <a:srgbClr val="000000"/>
                </a:solidFill>
                <a:latin typeface="Arial"/>
              </a:rPr>
              <a:t>중국요리</a:t>
            </a:r>
            <a:endParaRPr b="0" lang="en-US" sz="8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主意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ǔyi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생각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好吃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ǎochī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맛있다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韩国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Hánguó</a:t>
            </a:r>
            <a:endParaRPr b="0" lang="en-US" sz="1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한국</a:t>
            </a:r>
            <a:endParaRPr b="0" lang="en-US" sz="9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4T07:56:39Z</dcterms:created>
  <dc:creator>System</dc:creator>
  <dc:description/>
  <dc:language>en-US</dc:language>
  <cp:lastModifiedBy>System</cp:lastModifiedBy>
  <dcterms:modified xsi:type="dcterms:W3CDTF">2014-01-28T04:09:47Z</dcterms:modified>
  <cp:revision>9</cp:revision>
  <dc:subject/>
  <dc:title>슬라이드 1</dc:title>
</cp:coreProperties>
</file>